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EE26-1162-42E7-9077-0D33F7CC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DF84-0B1A-456D-9600-18269C14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DDCF-0588-406D-9807-FF6AC2A6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588B-ED94-4576-9E1A-9CF1B491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3938-4273-406A-90F5-E1C4728E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3A48-9D7A-4F46-B749-7C414A57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596B-D79D-4263-BF6B-F25DF8AA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83BF-E6BC-4665-9A96-EDCE7D32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B28A-2B62-4071-8600-DF385505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BD69-489A-4729-8B1C-E5A2BC5F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9BE1-E4F5-4D93-A797-1BB3A382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3BB8-81DB-40D1-B77D-39339E66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1185-1B4A-4AE0-B0C5-8CB7536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178E-0E24-486E-BBBD-B65A58A8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69BC-0E5F-44F0-B3B0-50CA888A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BEE5-57D5-4E41-AE7A-704BC457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C1D4-8CAC-4B7B-B01B-FFA223C8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602D-A0E3-4EF1-B4F7-E43B707D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33FA-3BB0-4104-9983-386E31F4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5F46-0F6D-4871-84E2-0ECA61FE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5E81-5C45-48AC-A8F6-DB8BEAA5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04A5-7933-455A-BCB5-16EBE09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3D37-0976-4EE7-ACF1-098A704E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7B06-C18D-4CCA-95A3-F62553A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8EF6-827F-44A5-9DC0-7673BB209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426C-0ECD-4B2D-B3EE-D1765F034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8;&#1089;&#1090;&#1086;&#1088;&#1080;&#1103;%20&#1079;&#1086;&#1083;&#1086;&#1090;&#1086;&#1075;&#1086;%20&#1089;&#1077;&#1095;&#1077;&#1085;&#1080;&#1103;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Золотое сечение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39640" y="4266720"/>
            <a:ext cx="6651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ыполнил: кадет Бреев 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уководитель: Горяйнова Г.М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580000" y="5273280"/>
            <a:ext cx="35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тина имеет точки, невольно приковывающие наше внимание, так называемые зрительные центры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5724360" y="1341360"/>
            <a:ext cx="2589480" cy="3839760"/>
            <a:chOff x="5724360" y="1341360"/>
            <a:chExt cx="2589480" cy="3839760"/>
          </a:xfrm>
        </p:grpSpPr>
        <p:grpSp>
          <p:nvGrpSpPr>
            <p:cNvPr id="153" name="Group 4"/>
            <p:cNvGrpSpPr/>
            <p:nvPr/>
          </p:nvGrpSpPr>
          <p:grpSpPr>
            <a:xfrm>
              <a:off x="5724360" y="1341360"/>
              <a:ext cx="2589480" cy="3839760"/>
              <a:chOff x="5724360" y="1341360"/>
              <a:chExt cx="2589480" cy="3839760"/>
            </a:xfrm>
          </p:grpSpPr>
          <p:pic>
            <p:nvPicPr>
              <p:cNvPr id="154" name="Picture 4" descr="http://upload.wikimedia.org/wikipedia/commons/6/6a/Mona_Lisa.jpg"/>
              <p:cNvPicPr/>
              <p:nvPr/>
            </p:nvPicPr>
            <p:blipFill>
              <a:blip r:embed="rId1"/>
              <a:stretch/>
            </p:blipFill>
            <p:spPr>
              <a:xfrm>
                <a:off x="5735880" y="1365840"/>
                <a:ext cx="2577600" cy="37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Line 6"/>
              <p:cNvSpPr/>
              <p:nvPr/>
            </p:nvSpPr>
            <p:spPr>
              <a:xfrm>
                <a:off x="6667200" y="2787480"/>
                <a:ext cx="64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7"/>
              <p:cNvSpPr/>
              <p:nvPr/>
            </p:nvSpPr>
            <p:spPr>
              <a:xfrm>
                <a:off x="6667200" y="3738960"/>
                <a:ext cx="0" cy="1423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8"/>
              <p:cNvSpPr/>
              <p:nvPr/>
            </p:nvSpPr>
            <p:spPr>
              <a:xfrm>
                <a:off x="6667200" y="1341360"/>
                <a:ext cx="0" cy="1423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9"/>
              <p:cNvSpPr/>
              <p:nvPr/>
            </p:nvSpPr>
            <p:spPr>
              <a:xfrm>
                <a:off x="7347600" y="3757680"/>
                <a:ext cx="966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0"/>
              <p:cNvSpPr/>
              <p:nvPr/>
            </p:nvSpPr>
            <p:spPr>
              <a:xfrm>
                <a:off x="6667200" y="3757680"/>
                <a:ext cx="64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1"/>
              <p:cNvSpPr/>
              <p:nvPr/>
            </p:nvSpPr>
            <p:spPr>
              <a:xfrm>
                <a:off x="7315200" y="1374480"/>
                <a:ext cx="0" cy="1423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2"/>
              <p:cNvSpPr/>
              <p:nvPr/>
            </p:nvSpPr>
            <p:spPr>
              <a:xfrm>
                <a:off x="7315200" y="3757680"/>
                <a:ext cx="0" cy="1423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3"/>
              <p:cNvSpPr/>
              <p:nvPr/>
            </p:nvSpPr>
            <p:spPr>
              <a:xfrm>
                <a:off x="5724360" y="3757680"/>
                <a:ext cx="966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4"/>
              <p:cNvSpPr/>
              <p:nvPr/>
            </p:nvSpPr>
            <p:spPr>
              <a:xfrm>
                <a:off x="7330680" y="2787480"/>
                <a:ext cx="966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5"/>
              <p:cNvSpPr/>
              <p:nvPr/>
            </p:nvSpPr>
            <p:spPr>
              <a:xfrm>
                <a:off x="5724360" y="2787480"/>
                <a:ext cx="966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H="1">
                <a:off x="6664320" y="2802240"/>
                <a:ext cx="647640" cy="95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7"/>
              <p:cNvSpPr/>
              <p:nvPr/>
            </p:nvSpPr>
            <p:spPr>
              <a:xfrm>
                <a:off x="6664680" y="2794680"/>
                <a:ext cx="647640" cy="95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18"/>
            <p:cNvSpPr/>
            <p:nvPr/>
          </p:nvSpPr>
          <p:spPr>
            <a:xfrm>
              <a:off x="6667200" y="2802240"/>
              <a:ext cx="0" cy="94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9"/>
            <p:cNvSpPr/>
            <p:nvPr/>
          </p:nvSpPr>
          <p:spPr>
            <a:xfrm>
              <a:off x="7315200" y="2802240"/>
              <a:ext cx="0" cy="94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"/>
          <p:cNvGrpSpPr/>
          <p:nvPr/>
        </p:nvGrpSpPr>
        <p:grpSpPr>
          <a:xfrm>
            <a:off x="1153800" y="640800"/>
            <a:ext cx="3047400" cy="5404680"/>
            <a:chOff x="1153800" y="640800"/>
            <a:chExt cx="3047400" cy="5404680"/>
          </a:xfrm>
        </p:grpSpPr>
        <p:grpSp>
          <p:nvGrpSpPr>
            <p:cNvPr id="170" name="Group 6"/>
            <p:cNvGrpSpPr/>
            <p:nvPr/>
          </p:nvGrpSpPr>
          <p:grpSpPr>
            <a:xfrm>
              <a:off x="1153800" y="640800"/>
              <a:ext cx="3047400" cy="5404680"/>
              <a:chOff x="1153800" y="640800"/>
              <a:chExt cx="3047400" cy="5404680"/>
            </a:xfrm>
          </p:grpSpPr>
          <p:pic>
            <p:nvPicPr>
              <p:cNvPr id="171" name="Picture 4" descr="http://upload.wikimedia.org/wikipedia/commons/6/6a/Mona_Lisa.jpg"/>
              <p:cNvPicPr/>
              <p:nvPr/>
            </p:nvPicPr>
            <p:blipFill>
              <a:blip r:embed="rId2"/>
              <a:stretch/>
            </p:blipFill>
            <p:spPr>
              <a:xfrm>
                <a:off x="1380240" y="1393200"/>
                <a:ext cx="2594880" cy="391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AutoShape 8"/>
              <p:cNvSpPr/>
              <p:nvPr/>
            </p:nvSpPr>
            <p:spPr>
              <a:xfrm>
                <a:off x="1378800" y="1398240"/>
                <a:ext cx="2595960" cy="39020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flipH="1" flipV="1" rot="4339200">
                <a:off x="1777680" y="3708000"/>
                <a:ext cx="1553760" cy="24458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0"/>
              <p:cNvSpPr/>
              <p:nvPr/>
            </p:nvSpPr>
            <p:spPr>
              <a:xfrm>
                <a:off x="2028600" y="1385280"/>
                <a:ext cx="1298160" cy="19512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1"/>
              <p:cNvSpPr/>
              <p:nvPr/>
            </p:nvSpPr>
            <p:spPr>
              <a:xfrm rot="4320000">
                <a:off x="2020320" y="533880"/>
                <a:ext cx="1553760" cy="2447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12"/>
              <p:cNvSpPr/>
              <p:nvPr/>
            </p:nvSpPr>
            <p:spPr>
              <a:xfrm flipH="1" rot="17280000">
                <a:off x="1782720" y="537480"/>
                <a:ext cx="1553760" cy="2447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13"/>
              <p:cNvSpPr/>
              <p:nvPr/>
            </p:nvSpPr>
            <p:spPr>
              <a:xfrm flipV="1" rot="17260800">
                <a:off x="2013840" y="3709080"/>
                <a:ext cx="1553760" cy="24483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14"/>
            <p:cNvSpPr/>
            <p:nvPr/>
          </p:nvSpPr>
          <p:spPr>
            <a:xfrm flipV="1">
              <a:off x="1383840" y="1376640"/>
              <a:ext cx="2596320" cy="3902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11280" y="5529240"/>
            <a:ext cx="42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Моны Лизы привлекает тем, что композиция рисунка построена на «золотых треугольник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2602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олотое сечение в картине Леонардо да Винчи "Джоконда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http://upload.wikimedia.org/wikipedia/commons/6/6a/Mona_Lisa.jpg"/>
          <p:cNvPicPr/>
          <p:nvPr/>
        </p:nvPicPr>
        <p:blipFill>
          <a:blip r:embed="rId1"/>
          <a:stretch/>
        </p:blipFill>
        <p:spPr>
          <a:xfrm>
            <a:off x="5003640" y="1557360"/>
            <a:ext cx="3151440" cy="48639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5148360" y="1557360"/>
            <a:ext cx="3017880" cy="489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 rot="16200000">
            <a:off x="5723640" y="4018680"/>
            <a:ext cx="1857600" cy="301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7018200" y="5300640"/>
            <a:ext cx="114012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7464600" y="4594320"/>
            <a:ext cx="707760" cy="7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7026120" y="4594320"/>
            <a:ext cx="1146240" cy="185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965160" y="1542960"/>
            <a:ext cx="3017880" cy="489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2836800" y="1555920"/>
            <a:ext cx="1146240" cy="185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 rot="16200000">
            <a:off x="1692720" y="764280"/>
            <a:ext cx="1857600" cy="301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3274920" y="2708280"/>
            <a:ext cx="708120" cy="7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2836800" y="1560600"/>
            <a:ext cx="1147680" cy="114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755640" y="1844640"/>
            <a:ext cx="3151080" cy="4863960"/>
            <a:chOff x="755640" y="1844640"/>
            <a:chExt cx="3151080" cy="4863960"/>
          </a:xfrm>
        </p:grpSpPr>
        <p:pic>
          <p:nvPicPr>
            <p:cNvPr id="193" name="Picture 4" descr="http://upload.wikimedia.org/wikipedia/commons/6/6a/Mona_Lisa.jpg"/>
            <p:cNvPicPr/>
            <p:nvPr/>
          </p:nvPicPr>
          <p:blipFill>
            <a:blip r:embed="rId2"/>
            <a:stretch/>
          </p:blipFill>
          <p:spPr>
            <a:xfrm>
              <a:off x="755640" y="1844640"/>
              <a:ext cx="3151080" cy="48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6"/>
            <p:cNvSpPr/>
            <p:nvPr/>
          </p:nvSpPr>
          <p:spPr>
            <a:xfrm rot="16200000">
              <a:off x="1660320" y="2689920"/>
              <a:ext cx="1107720" cy="68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900000" y="3812760"/>
              <a:ext cx="2597040" cy="1601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976320" y="4493880"/>
              <a:ext cx="2798640" cy="17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71640" y="404640"/>
            <a:ext cx="55450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овало мнение, что композиция имеет успех из-за построения на «золотых прямоугольник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Тайная вечеря - фреска Леонардо да Винчи - после реставрации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89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048280" y="3527280"/>
            <a:ext cx="1681200" cy="1047960"/>
          </a:xfrm>
          <a:prstGeom prst="rect">
            <a:avLst/>
          </a:prstGeom>
          <a:noFill/>
          <a:ln w="19080">
            <a:solidFill>
              <a:srgbClr val="cd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12720" y="3551400"/>
            <a:ext cx="1778040" cy="1106280"/>
          </a:xfrm>
          <a:prstGeom prst="rect">
            <a:avLst/>
          </a:prstGeom>
          <a:noFill/>
          <a:ln w="19080">
            <a:solidFill>
              <a:srgbClr val="cd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 rot="16200000">
            <a:off x="3894120" y="3654360"/>
            <a:ext cx="1432080" cy="876240"/>
          </a:xfrm>
          <a:prstGeom prst="rect">
            <a:avLst/>
          </a:prstGeom>
          <a:noFill/>
          <a:ln w="19080">
            <a:solidFill>
              <a:srgbClr val="cd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830680" y="2387520"/>
            <a:ext cx="3295440" cy="2054160"/>
          </a:xfrm>
          <a:prstGeom prst="rect">
            <a:avLst/>
          </a:prstGeom>
          <a:noFill/>
          <a:ln w="19080">
            <a:solidFill>
              <a:srgbClr val="cd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7020000" y="3576600"/>
            <a:ext cx="1812960" cy="1128600"/>
          </a:xfrm>
          <a:prstGeom prst="rect">
            <a:avLst/>
          </a:prstGeom>
          <a:noFill/>
          <a:ln w="19080">
            <a:solidFill>
              <a:srgbClr val="cd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562120" y="3768840"/>
            <a:ext cx="1536840" cy="955440"/>
          </a:xfrm>
          <a:prstGeom prst="rect">
            <a:avLst/>
          </a:prstGeom>
          <a:noFill/>
          <a:ln w="19080">
            <a:solidFill>
              <a:srgbClr val="cd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611280" y="3546360"/>
            <a:ext cx="3529080" cy="2200320"/>
          </a:xfrm>
          <a:prstGeom prst="rect">
            <a:avLst/>
          </a:prstGeom>
          <a:noFill/>
          <a:ln w="19080">
            <a:solidFill>
              <a:srgbClr val="cd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5219640" y="3529080"/>
            <a:ext cx="3613320" cy="2252520"/>
          </a:xfrm>
          <a:prstGeom prst="rect">
            <a:avLst/>
          </a:prstGeom>
          <a:noFill/>
          <a:ln w="19080">
            <a:solidFill>
              <a:srgbClr val="cd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785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ичие золотых прямоугольников в фреск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онардо да Винчи   «Тайная вечер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олотое сечение в картин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.И. Шишкина «Корабельная рощ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rcRect l="23423" t="32293" r="27849" b="25393"/>
          <a:stretch/>
        </p:blipFill>
        <p:spPr>
          <a:xfrm>
            <a:off x="5651640" y="1413000"/>
            <a:ext cx="3309840" cy="24825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3"/>
          <p:cNvGrpSpPr/>
          <p:nvPr/>
        </p:nvGrpSpPr>
        <p:grpSpPr>
          <a:xfrm>
            <a:off x="-296640" y="1596960"/>
            <a:ext cx="6459840" cy="5031000"/>
            <a:chOff x="-296640" y="1596960"/>
            <a:chExt cx="6459840" cy="5031000"/>
          </a:xfrm>
        </p:grpSpPr>
        <p:pic>
          <p:nvPicPr>
            <p:cNvPr id="211" name="Рисунок 4" descr="[  Шишкин Иван Иванович  ]. Корабельная роща. 1898"/>
            <p:cNvPicPr/>
            <p:nvPr/>
          </p:nvPicPr>
          <p:blipFill>
            <a:blip r:embed="rId2"/>
            <a:stretch/>
          </p:blipFill>
          <p:spPr>
            <a:xfrm>
              <a:off x="316080" y="2482560"/>
              <a:ext cx="5224680" cy="32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7"/>
            <p:cNvSpPr/>
            <p:nvPr/>
          </p:nvSpPr>
          <p:spPr>
            <a:xfrm flipV="1" rot="16200000">
              <a:off x="1263240" y="1506600"/>
              <a:ext cx="3328560" cy="52192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cd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 flipH="1" flipV="1" rot="5400000">
              <a:off x="1272240" y="1506240"/>
              <a:ext cx="3328560" cy="52196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cd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"/>
            <p:cNvSpPr/>
            <p:nvPr/>
          </p:nvSpPr>
          <p:spPr>
            <a:xfrm flipV="1" rot="7560000">
              <a:off x="585720" y="1767240"/>
              <a:ext cx="2057400" cy="32256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cd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0"/>
            <p:cNvSpPr/>
            <p:nvPr/>
          </p:nvSpPr>
          <p:spPr>
            <a:xfrm flipH="1" flipV="1" rot="14040000">
              <a:off x="3224880" y="1763280"/>
              <a:ext cx="2057400" cy="32256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cd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1"/>
            <p:cNvSpPr/>
            <p:nvPr/>
          </p:nvSpPr>
          <p:spPr>
            <a:xfrm rot="14040000">
              <a:off x="584280" y="3234240"/>
              <a:ext cx="2057400" cy="3226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cd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2"/>
            <p:cNvSpPr/>
            <p:nvPr/>
          </p:nvSpPr>
          <p:spPr>
            <a:xfrm flipH="1" rot="7560000">
              <a:off x="3223440" y="3231360"/>
              <a:ext cx="2057400" cy="32256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cd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498400" y="1267920"/>
            <a:ext cx="66452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ключение хотелось бы отметить, что золотое сечение в природе, искусстве, архитектуре является непременным условием правильного и красивого изображения предмета, впоследствии украшающего нашу жизнь. Проделав данную работу, мы убедились в том, что использование «золотого сечения» актуально всег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1" descr="823774-001"/>
          <p:cNvPicPr/>
          <p:nvPr/>
        </p:nvPicPr>
        <p:blipFill>
          <a:blip r:embed="rId1"/>
          <a:stretch/>
        </p:blipFill>
        <p:spPr>
          <a:xfrm>
            <a:off x="468360" y="4365720"/>
            <a:ext cx="7813800" cy="230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089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и искусство. – М.: Просвещение, 1992 – 335 с.: 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циклопедия для детей. Математика –  М.: Мир энциклопедии Аванта +, Астрель, 2007. – 621 с.: и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wmpainting.ru/MasterPieces/p19_sectionid/4/p19_imageid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. Информатика: Энциклопедия. –  М.: ЗАО  «РОСМЭН-ПРЕСС», М34 2007. – 544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Rockwell Extra Bold"/>
              </a:rPr>
              <a:t>ЦЕЛЬ: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подбор и анализ необходимой информации  о золотом сече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детальное рассмотрение сфер применения золотого сечения в жизни и на практи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найти наиболее интересный материа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познакомиться с определением золотого сечения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историей развития золотого с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использование золотого сечения в живопи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Оформить презент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ое всегда состоит из частей, части разной величины находятся в определенном отношении друг к другу и к целому. Принцип золотого сечения – высшее проявление структурного и функционального совершенства целого и его частей в искусстве, науке, технике и прир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285959-003"/>
          <p:cNvPicPr/>
          <p:nvPr/>
        </p:nvPicPr>
        <p:blipFill>
          <a:blip r:embed="rId1"/>
          <a:stretch/>
        </p:blipFill>
        <p:spPr>
          <a:xfrm>
            <a:off x="324000" y="4292640"/>
            <a:ext cx="2808000" cy="220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261710-004"/>
          <p:cNvPicPr/>
          <p:nvPr/>
        </p:nvPicPr>
        <p:blipFill>
          <a:blip r:embed="rId2"/>
          <a:stretch/>
        </p:blipFill>
        <p:spPr>
          <a:xfrm>
            <a:off x="6372360" y="4869000"/>
            <a:ext cx="259056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3708360" y="3860640"/>
            <a:ext cx="2270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Золотое сечение – гармоническая пропор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4c8"/>
                </a:solidFill>
                <a:latin typeface="Arial"/>
              </a:rPr>
              <a:t>Пропорция</a:t>
            </a:r>
            <a:r>
              <a:rPr b="0" lang="en-US" sz="3200" spc="-1" strike="noStrike">
                <a:solidFill>
                  <a:srgbClr val="0064c8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от лат.</a:t>
            </a:r>
            <a:r>
              <a:rPr b="0" lang="en-US" sz="3200" spc="-1" strike="noStrike">
                <a:solidFill>
                  <a:srgbClr val="0064c8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64c8"/>
                </a:solidFill>
                <a:latin typeface="Times New Roman"/>
              </a:rPr>
              <a:t>proportio</a:t>
            </a:r>
            <a:r>
              <a:rPr b="0" lang="en-US" sz="3200" spc="-1" strike="noStrike">
                <a:solidFill>
                  <a:srgbClr val="0064c8"/>
                </a:solidFill>
                <a:latin typeface="Arial"/>
              </a:rPr>
              <a:t>)  означает «соразмерность», «определенное соотношение частей между собо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c8"/>
                </a:solidFill>
                <a:latin typeface="Arial"/>
              </a:rPr>
              <a:t>В математике </a:t>
            </a:r>
            <a:r>
              <a:rPr b="1" i="1" lang="en-US" sz="3200" spc="-1" strike="noStrike">
                <a:solidFill>
                  <a:srgbClr val="0064c8"/>
                </a:solidFill>
                <a:latin typeface="Arial"/>
              </a:rPr>
              <a:t>пропорцией</a:t>
            </a:r>
            <a:r>
              <a:rPr b="0" lang="en-US" sz="3200" spc="-1" strike="noStrike">
                <a:solidFill>
                  <a:srgbClr val="0064c8"/>
                </a:solidFill>
                <a:latin typeface="Arial"/>
              </a:rPr>
              <a:t> называют равенство двух отношен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: b = c : 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3500280"/>
            <a:ext cx="765324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Отрезок прямой АВ можно разделить на две части следующими способ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а) на две равные ч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б) на две неравные части в любом отношении (такие части пропорции не образуют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в) таким образом, когда АВ : АС= АС : 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4c8"/>
                </a:solidFill>
                <a:latin typeface="Arial"/>
              </a:rPr>
              <a:t>Последнее и есть золотое деление или деление отрезка в крайнем и среднем отнош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1547640" y="1197000"/>
            <a:ext cx="3598560" cy="0"/>
            <a:chOff x="1547640" y="1197000"/>
            <a:chExt cx="3598560" cy="0"/>
          </a:xfrm>
        </p:grpSpPr>
        <p:sp>
          <p:nvSpPr>
            <p:cNvPr id="118" name="Line 6"/>
            <p:cNvSpPr/>
            <p:nvPr/>
          </p:nvSpPr>
          <p:spPr>
            <a:xfrm>
              <a:off x="1547640" y="1197000"/>
              <a:ext cx="179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3346560" y="1197000"/>
              <a:ext cx="179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1"/>
          <p:cNvGrpSpPr/>
          <p:nvPr/>
        </p:nvGrpSpPr>
        <p:grpSpPr>
          <a:xfrm>
            <a:off x="1547640" y="1914480"/>
            <a:ext cx="3598200" cy="0"/>
            <a:chOff x="1547640" y="1914480"/>
            <a:chExt cx="3598200" cy="0"/>
          </a:xfrm>
        </p:grpSpPr>
        <p:sp>
          <p:nvSpPr>
            <p:cNvPr id="121" name="Line 9"/>
            <p:cNvSpPr/>
            <p:nvPr/>
          </p:nvSpPr>
          <p:spPr>
            <a:xfrm>
              <a:off x="4371840" y="1914480"/>
              <a:ext cx="77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1547640" y="1914480"/>
              <a:ext cx="284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1547640" y="2494080"/>
            <a:ext cx="3598560" cy="0"/>
            <a:chOff x="1547640" y="2494080"/>
            <a:chExt cx="3598560" cy="0"/>
          </a:xfrm>
        </p:grpSpPr>
        <p:sp>
          <p:nvSpPr>
            <p:cNvPr id="124" name="Line 12"/>
            <p:cNvSpPr/>
            <p:nvPr/>
          </p:nvSpPr>
          <p:spPr>
            <a:xfrm>
              <a:off x="1547640" y="2494080"/>
              <a:ext cx="227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3824640" y="2494080"/>
              <a:ext cx="132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7"/>
          <p:cNvSpPr/>
          <p:nvPr/>
        </p:nvSpPr>
        <p:spPr>
          <a:xfrm>
            <a:off x="1332000" y="13874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4211640" y="1387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4930920" y="134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755640" y="83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55640" y="1486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755640" y="2108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332000" y="620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332000" y="19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132000" y="6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56400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4932360" y="6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93236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76720" y="263700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АВ : АС = АС: 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86924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"/>
              </a:rPr>
              <a:t>Золотое сечение</a:t>
            </a:r>
            <a:r>
              <a:rPr b="0" i="1" lang="en-US" sz="2400" spc="-1" strike="noStrike">
                <a:solidFill>
                  <a:srgbClr val="0064c8"/>
                </a:solidFill>
                <a:latin typeface="Arial"/>
              </a:rPr>
              <a:t> – это такое пропорциональное деление отрезка на неравные части, при котором весь отрезок так относится к большей части, как сама большая часть относится к меньшей; или другими словами, меньший отрезок так относится к большему, как больший ко вс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: b = b : c</a:t>
            </a:r>
            <a:r>
              <a:rPr b="0" i="1" lang="en-US" sz="2400" spc="-1" strike="noStrike">
                <a:solidFill>
                  <a:srgbClr val="0064c8"/>
                </a:solidFill>
                <a:latin typeface="Arial"/>
              </a:rPr>
              <a:t> и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: b = b : а</a:t>
            </a:r>
            <a:r>
              <a:rPr b="0" i="1" lang="en-US" sz="2400" spc="-1" strike="noStrike">
                <a:solidFill>
                  <a:srgbClr val="0064c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еометрическое изображение золотой пропорции"/>
          <p:cNvPicPr/>
          <p:nvPr/>
        </p:nvPicPr>
        <p:blipFill>
          <a:blip r:embed="rId1"/>
          <a:stretch/>
        </p:blipFill>
        <p:spPr>
          <a:xfrm>
            <a:off x="1476360" y="4437000"/>
            <a:ext cx="5977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ометрическое изображение золотой пропор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ое знакомство с золотым сечением начинают с деления отрезка прямой в золотой пропорции с помощью циркуля и лине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отрезка прямой по золотому сечению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= 1/2 AB; CD= B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очки В строится перпендикуляр, равный ½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ая точка С соединяется линией с точко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На полученной линии откладывается отрезок ВС, заканчивающийся точкой 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Отрезок AD переносится на прямую АВ. Полученная при этом точка 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ит отрезок АВ в соотнош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пропор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Золотое сечение - построение"/>
          <p:cNvPicPr/>
          <p:nvPr/>
        </p:nvPicPr>
        <p:blipFill>
          <a:blip r:embed="rId1"/>
          <a:stretch/>
        </p:blipFill>
        <p:spPr>
          <a:xfrm>
            <a:off x="4716360" y="4797360"/>
            <a:ext cx="38181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41148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еется, бывает и «золотой треугольни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, являющийся частью правильного звездчатого пяти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пентаграммы –  это равнобедрен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G, E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, замечательное свойство которых состоит в том, что длины биссектрис углов при его основании равны длине самого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C:\Documents and Settings\Admin\Мои документы\Мои результаты сканировани\2009-01 (янв)\сканирование0219.jpg"/>
          <p:cNvPicPr/>
          <p:nvPr/>
        </p:nvPicPr>
        <p:blipFill>
          <a:blip r:embed="rId1"/>
          <a:stretch/>
        </p:blipFill>
        <p:spPr>
          <a:xfrm>
            <a:off x="5364000" y="3933720"/>
            <a:ext cx="2629080" cy="256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nts and Settings\Admin\Мои документы\Мои результаты сканировани\2009-01 (янв)\сканирование0215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364000" y="404640"/>
            <a:ext cx="2227320" cy="31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067280" y="1988640"/>
            <a:ext cx="46195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поху Возрождения художники открыли, что любая картина имеет определенные точки, невольно приковывающие наше внимание, так называемые зрительные центры. Данное открытие у художников того времени получило название «золотое сечение» карт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Золотое сечение картины"/>
          <p:cNvPicPr/>
          <p:nvPr/>
        </p:nvPicPr>
        <p:blipFill>
          <a:blip r:embed="rId1"/>
          <a:stretch/>
        </p:blipFill>
        <p:spPr>
          <a:xfrm>
            <a:off x="324000" y="1628640"/>
            <a:ext cx="3024000" cy="2517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03280" y="54936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62064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олотое сечение в жив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6:39:53Z</dcterms:created>
  <dc:creator>Admin</dc:creator>
  <dc:description/>
  <dc:language>en-US</dc:language>
  <cp:lastModifiedBy>Admin</cp:lastModifiedBy>
  <dcterms:modified xsi:type="dcterms:W3CDTF">2011-01-30T19:43:46Z</dcterms:modified>
  <cp:revision>10</cp:revision>
  <dc:subject/>
  <dc:title>Золотое сечение </dc:title>
</cp:coreProperties>
</file>